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6B0-D22C-4297-A356-EE9263AA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875-D7C5-471B-AA75-5CB47BEF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B0A-0FA2-4172-B85E-0DD1EC6B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A70-BA21-4AAD-961B-C1C0F27C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C71-2E21-416B-9045-47B8D6D5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48C-3F6E-4415-8431-9AC6C13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0EF-31E2-41C3-B44D-FFDA74F9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D5E-4ECF-4A15-9ECC-1350A18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3EA-0764-4444-9798-0A101B36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7ED-31FF-47BA-B61A-527A896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4D5-9408-4890-88F9-CF13418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026-219A-4440-8FD4-DE32A36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473F-BC23-45E4-8185-C3495CDF0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928960" y="2060640"/>
            <a:ext cx="57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Могут ли быть у робота гла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16000" y="476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haroni"/>
              </a:rPr>
              <a:t>Robo-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3000240" y="4143240"/>
            <a:ext cx="614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Исследовательская группа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упкина Василия– 10б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клас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Сусанина Ивана – 10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45" name="Rectangle 1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3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 села Дальн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9" descr=""/>
          <p:cNvPicPr/>
          <p:nvPr/>
        </p:nvPicPr>
        <p:blipFill>
          <a:blip r:embed="rId1"/>
          <a:srcRect l="0" t="13503" r="24490" b="0"/>
          <a:stretch/>
        </p:blipFill>
        <p:spPr>
          <a:xfrm>
            <a:off x="214200" y="2000160"/>
            <a:ext cx="26434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3348000" y="836640"/>
            <a:ext cx="54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боты… еще недавно они казались сказочными персонажами наподобие Дюймовочки, Железного дровосека. А теперь стоит только оглянуться- ты увидищь их везде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835280" y="64911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У СОШ № 8 село Спас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238720" y="35002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428760" y="357120"/>
            <a:ext cx="3746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Может ли робот виде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03280" y="177336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едположе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бот не может вид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03280" y="306864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едположе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боты могут видеть, если человек это захо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57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785520" cy="9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2"/>
          <a:stretch/>
        </p:blipFill>
        <p:spPr>
          <a:xfrm>
            <a:off x="428760" y="2857680"/>
            <a:ext cx="7855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03280" y="177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Анализ данных сети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571760" y="307188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Анализ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65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14240" y="1500120"/>
            <a:ext cx="803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омашним роботам, наподобие пылесосов, зрение в нашем понимании не требуется! Для ориентации в пространстве им вполне достаточно радиомаячков.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70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714760" y="3000240"/>
            <a:ext cx="4228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826920" y="476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14240" y="1500120"/>
            <a:ext cx="803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о вот роботам-спасателям, военным роботам, роботам-танцорам и остальным, которым необходимо визуальное слежение окружающего мира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рение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необходим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0" y="6453360"/>
            <a:ext cx="9144000" cy="406080"/>
            <a:chOff x="0" y="6453360"/>
            <a:chExt cx="9144000" cy="406080"/>
          </a:xfrm>
        </p:grpSpPr>
        <p:sp>
          <p:nvSpPr>
            <p:cNvPr id="76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0000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1835280" y="6491160"/>
              <a:ext cx="53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МОУ СОШ № 8 село Спас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643120" y="3267000"/>
            <a:ext cx="4067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28:28Z</dcterms:created>
  <dc:creator>Андрей</dc:creator>
  <dc:description/>
  <dc:language>en-US</dc:language>
  <cp:lastModifiedBy>26090</cp:lastModifiedBy>
  <dcterms:modified xsi:type="dcterms:W3CDTF">2010-05-15T04:35:42Z</dcterms:modified>
  <cp:revision>49</cp:revision>
  <dc:subject/>
  <dc:title>Слайд 1</dc:title>
</cp:coreProperties>
</file>